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EA3-38CD-4BA0-BD05-CFD87B56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0D2-41F1-4EF4-A089-1A2C15E5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558-4E35-4D89-B283-20C14C2A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02F-393E-40A2-A896-3B795C7D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AD5A-10EA-4DE9-B4B3-192DE5D2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C1C-7315-413D-ABE2-4E8F8B52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F72B-91E8-45EA-ADBE-B51040D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372A-D1D3-4C52-8D2A-B7049C65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1BA9-2561-464A-B693-2E397AF2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DCA9-C61B-49B2-BEF2-F670037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ECDC-7D73-47CA-8B1D-FB477FE6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870-64E7-4154-A905-CA7222F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3B9B-8491-4C89-AF9A-9C359802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17E7-5D95-46A4-9078-CA3A286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5C65-C592-447E-AA49-D5EB29A3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59E2-3D9A-4FBD-81D8-40276DA0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C69F-1FB2-4FEC-AE2F-BFA7D253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E6A-19F0-4FFA-9C58-1883DFA1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8B1-C09B-4284-8576-535C80E7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5B0-9CDE-4867-AE78-7FFB712D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FD9-4CBD-4220-BA9E-8D99A05D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AFB-BC49-49CB-B665-EC64E78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92F-98B2-404E-A2E0-453ED948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B65-1F63-4035-A66F-DCFEC71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1CB7-6DE7-4FBC-89F8-F665B1B73B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BF5B-E0E2-4717-AEB9-9C1B06F1BF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 H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Practi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 today: outline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you learning about your topic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your opinion changed?  Did you have a hard time researching?  What has help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py HW due Wed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sed Outline (comple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 day 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the 3 parts to the thesi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main ideas are listed in the bo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he main ideas match the thesis?  Expl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revisions does the body ne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4:59:10Z</dcterms:created>
  <dc:creator>Tucker</dc:creator>
  <dc:description/>
  <dc:language>en-US</dc:language>
  <cp:lastModifiedBy>Tucker</cp:lastModifiedBy>
  <dcterms:modified xsi:type="dcterms:W3CDTF">2010-05-24T22:40:46Z</dcterms:modified>
  <cp:revision>2</cp:revision>
  <dc:subject/>
  <dc:title>Agenda</dc:title>
</cp:coreProperties>
</file>